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2CA-92C0-423B-883F-22EE7598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2C7-E1E8-4B2B-8FDB-68A3B10B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36A-5AA4-471E-9CDF-0B37BC69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B53-53F6-4652-8E0A-F78C04F5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63B3-B697-4EFE-81DE-E550AC1F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2984-3258-493A-8435-2BE0F8E9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AC2D-CEBA-4E99-A5BF-997FA065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AB09-F0CE-4E13-A11B-E8A93596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1774-B681-45D0-AD64-EF2D1A20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9E8F-5ECE-4360-8B83-9C696C3E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D23E-7C46-4B10-B580-2F1B57E8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BBBB-4D24-447A-B203-81747120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082C-8E11-4574-8CA6-52F7AF9C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4AEB-9DAB-4FA0-B2CA-6C96B101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7469-D0C0-4F89-BCCA-F6444B50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A588-4092-4C5B-AB6B-51CE90A9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F4AD-5F26-4205-ABB8-6149B557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566C6-9D6B-4A1F-A8A3-7EDB74D5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0171-A883-4DC2-A96B-2D015C96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E9A85-B7E8-434E-B2B7-E6BC394D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E60C-73B7-4B84-B504-3FB990AE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9B434-273E-421A-985A-D6A278D6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FDD3-2AA2-4EF0-9046-08F922EF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91C86-41C4-42D0-B8DE-7CC1C791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6025B-392A-4812-A4DC-9BE11818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CADED-5350-4CEC-9829-8CF22736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987C5-F4B8-49B1-B5AA-DFA0D84A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267BE-E14B-492E-90A9-D55D70ED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D59DF-3283-49AA-BF2A-8046DCF3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914E3-0B9B-4058-9836-C3BFAFC0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8E94F-AB61-403B-9A6A-2458A84A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A23E3-C341-4F03-940F-C5E84FC0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13154-E077-429C-AC24-49573E8E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0BA-7EE1-4AF0-BE70-D6A26B0E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287F4-8669-450E-AF8E-998638EC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BCDE-D98B-4B8A-8BB3-529156DB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E7829-5682-486A-A817-7EF7AA0D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8962B-DE22-47C7-90B4-EC20E1D8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EBC52-C0B7-4F5D-8794-AB17B1AE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B85A8-AD95-4358-9087-C47FF0D0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CA184-A231-4FE9-858C-8F5CCE71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05FE2-2D6A-4D33-A86C-460CC505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110EB-77C9-4397-849D-E7A6D527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2879F-CC3E-4C2D-A5B5-9261E8F2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475-F9AB-484C-ADCF-98117961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818E9-B0B9-41AC-959E-CF286ACD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4AF5B-F2F9-407B-B804-6F5BB389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A9DD2-C84C-4524-AC92-AFDCE9AB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7C617-ED51-489D-AAAD-8F9F81B9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A2EBE-F252-4659-9AAE-BF3346C0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5D728-CB2B-4043-9702-73469B06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4BEA2-8F62-454E-AC87-CC113BB4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80196-393C-48A1-A4DA-D23D7B51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5D333-BD7E-4C55-9568-B5F2D97B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2E18A-3CE4-4B0E-9707-DC0C1B08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17D-99DF-4C95-BF77-3AB8E195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347DD-0F7D-4257-9A96-A1EB1461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4768B-E0EE-40FF-9B75-CF96778E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3A1CE-A279-4E21-8FFD-230F21B3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B9420-D821-45BA-903B-7EEA1EED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7281E-D117-4A1D-8F68-63606BE7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A65EA-83C1-44E1-9A8A-FFD24534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D988D-70CC-4EB2-B367-914ACA9C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27A50-E95F-40D7-A0E9-D3A58865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10CB0-0EA1-453E-9A28-C2373549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6115E-2C7D-4D73-AC18-81DB4A32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62D-2426-4BD5-A7D3-56D5F0E0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9E01C-F516-4078-9CFF-7610533A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E0551-00F9-406B-B8C6-25992280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32357-4D6B-48B5-B1A8-19C5F96F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453CD-570E-472E-893D-BAA3ABDA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0141F-E9CC-42D8-B9A0-6A3E189B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5A849-0FC0-42CA-8E89-FCC092D4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65DDA-33DE-481A-BA8F-3C946271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1D611-09FE-4EF6-AAA2-1ED8230D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BA5C4-3111-4854-B61D-7B0D210B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1C8CF-B49E-4BDE-928F-9B832521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C1BC-E7A4-46B7-8420-9042CBE1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BBFE2-5A17-437F-88D6-9A15D801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CBCA6-F194-4DA3-BFC3-72783B14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F0018-B804-4F31-BDF5-2C1874F1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ACB57-A2E1-4D57-9766-0108DE2C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029AB-3937-4DC1-A28F-4F6CD6F2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41E4-03CD-43E6-BA72-92D193B3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735E-1188-4BBC-9C7C-B8AD7850477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02810"/>
              </a:gs>
              <a:gs pos="100000">
                <a:srgbClr val="ff8f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1629-D621-4B8F-AB76-A0BC7AEB5F6C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631A-3D2E-423A-8691-3EB9D8AD37A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02810"/>
              </a:gs>
              <a:gs pos="100000">
                <a:srgbClr val="ff8f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3159-04EB-4B8D-BD8C-A57DBE10CDD6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6769-9EA1-4968-960E-CDE05C10F5F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8F8E-3443-4809-8128-EE3F6DA824AA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1E31-B735-4946-B5CB-A2716732BEE2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13780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378000" y="3273480"/>
            <a:ext cx="80708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Group 1 with Rachel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Kalib, Ethan, Tyler, Christina, Kevi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Group 2 with Da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Jenn, Megan, Lauren, Johnn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Group 3 with Kaite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Meng, Cheyanne, M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w can MCL work for you in your classroom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rainstorm a hypothetical unit you could do with your class based upon your content (integrate content areas if needed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pare a way to share your idea (any format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650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What do you know about MCL?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650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650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What do you want to know?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6840" y="188280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tandard-based Educ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dividualized Learn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Atmosphere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No Grade Level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No ABC Grad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No Report Card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6" name="Picture 7" descr="http://maine121.org/wp-content/uploads/2012/06/Inevitable-cover.jpg"/>
          <p:cNvPicPr/>
          <p:nvPr/>
        </p:nvPicPr>
        <p:blipFill>
          <a:blip r:embed="rId2"/>
          <a:stretch/>
        </p:blipFill>
        <p:spPr>
          <a:xfrm>
            <a:off x="6477120" y="2590920"/>
            <a:ext cx="2147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88280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he Shif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Industrial Age v. Digital Ag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5" descr="http://techpinions.com/wp-content/uploads/2012/12/assembly-line-women.jpg"/>
          <p:cNvPicPr/>
          <p:nvPr/>
        </p:nvPicPr>
        <p:blipFill>
          <a:blip r:embed="rId2"/>
          <a:stretch/>
        </p:blipFill>
        <p:spPr>
          <a:xfrm>
            <a:off x="6095880" y="1371600"/>
            <a:ext cx="2438640" cy="1989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10" name="Picture 7" descr="http://www.mapsalive.com/Public/Images/iPhoneiAndiPad.jpg"/>
          <p:cNvPicPr/>
          <p:nvPr/>
        </p:nvPicPr>
        <p:blipFill>
          <a:blip r:embed="rId3"/>
          <a:stretch/>
        </p:blipFill>
        <p:spPr>
          <a:xfrm>
            <a:off x="5943600" y="4114800"/>
            <a:ext cx="2868480" cy="2057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6840" y="188280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Matrix Pap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sts expectations/standard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udent pace and teacher pac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an look different from school to schoo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egative Aspect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Picture 2" descr="http://www.dixfield.org/assets/kelly_ms.jpg"/>
          <p:cNvPicPr/>
          <p:nvPr/>
        </p:nvPicPr>
        <p:blipFill>
          <a:blip r:embed="rId2"/>
          <a:stretch/>
        </p:blipFill>
        <p:spPr>
          <a:xfrm>
            <a:off x="5791320" y="302904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6400800" y="5562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.W. Kelly Dirigo Middle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21760" cy="14079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Idealists: Yes and N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-Learning within the individual: Y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-Choice in Learning: Y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-Great Works: No   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 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-Student-Centered: N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Realism: N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 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-Teacher as learning coach and facilitator; not as direct instructo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-Individual and student base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-HOWEVER: Both agree on concept of critical thinking for studen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Pragmaticism: Y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Learner/Student-Center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Teacher as a facilitato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Question and Independent Thinke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Existentialists: Yes and N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Personal Choice for Students: Y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Move away from numerical grading system: Y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Knowledge of Content vs. Meaning of Self: No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hift from teacher to facilitator (learning coach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lationship with studen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anges the way we prepare for a semest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rganization, Quick Access, Jugg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nsure students are familiar with the standard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hift away from numerical grades, grade level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ccess for students and paren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151920" y="19810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Pro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Focuses on Learn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Being a Facilitat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Proficiency Based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Con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Fund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Promoting Isol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Inflexible for Facilitat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2" descr="http://americanradioworks.publicradio.org/features/personalized-learning/images/mooresville06.jpg"/>
          <p:cNvPicPr/>
          <p:nvPr/>
        </p:nvPicPr>
        <p:blipFill>
          <a:blip r:embed="rId2"/>
          <a:stretch/>
        </p:blipFill>
        <p:spPr>
          <a:xfrm>
            <a:off x="5407200" y="1670040"/>
            <a:ext cx="3060360" cy="224316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4"/>
          <p:cNvSpPr/>
          <p:nvPr/>
        </p:nvSpPr>
        <p:spPr>
          <a:xfrm>
            <a:off x="155520" y="-1531800"/>
            <a:ext cx="4762440" cy="31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155520" y="-1531800"/>
            <a:ext cx="4762440" cy="31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8" descr="http://www.bbps.school.nz/images/computers.jpg"/>
          <p:cNvPicPr/>
          <p:nvPr/>
        </p:nvPicPr>
        <p:blipFill>
          <a:blip r:embed="rId3"/>
          <a:stretch/>
        </p:blipFill>
        <p:spPr>
          <a:xfrm>
            <a:off x="6172200" y="4495680"/>
            <a:ext cx="2602080" cy="17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1:27:59Z</dcterms:created>
  <dc:creator>Rachel Joiner</dc:creator>
  <dc:description/>
  <dc:language>en-US</dc:language>
  <cp:lastModifiedBy>Rachel Joiner</cp:lastModifiedBy>
  <dcterms:modified xsi:type="dcterms:W3CDTF">2013-11-12T03:16:39Z</dcterms:modified>
  <cp:revision>5</cp:revision>
  <dc:subject/>
  <dc:title>Mass Customized Learning</dc:title>
</cp:coreProperties>
</file>